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79000" y="696960"/>
            <a:ext cx="4651560" cy="348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A6C6-26DB-46FE-91B4-D043322C0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51560" cy="3487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B44B-BD5B-4B99-8B79-6B7F46E43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22" descr="Carcassonne"/>
          <p:cNvPicPr/>
          <p:nvPr/>
        </p:nvPicPr>
        <p:blipFill>
          <a:blip r:embed="rId2"/>
          <a:stretch/>
        </p:blipFill>
        <p:spPr>
          <a:xfrm>
            <a:off x="1371600" y="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25" descr="blue knight"/>
          <p:cNvPicPr/>
          <p:nvPr/>
        </p:nvPicPr>
        <p:blipFill>
          <a:blip r:embed="rId3"/>
          <a:srcRect l="7861" t="3331" r="9499" b="3331"/>
          <a:stretch/>
        </p:blipFill>
        <p:spPr>
          <a:xfrm>
            <a:off x="0" y="0"/>
            <a:ext cx="13716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1295280" y="1447920"/>
            <a:ext cx="769644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6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28a4a1"/>
                  </a:solidFill>
                  <a:miter/>
                </a:ln>
                <a:solidFill>
                  <a:srgbClr val="006699"/>
                </a:solidFill>
                <a:effectLst>
                  <a:outerShdw dist="40186" dir="1096358" blurRad="0" rotWithShape="0">
                    <a:srgbClr val="28a4a1"/>
                  </a:outerShdw>
                </a:effectLst>
                <a:latin typeface="Lombardic Narrow"/>
              </a:rPr>
              <a:t>The Middle Ages</a:t>
            </a:r>
            <a:endParaRPr b="0" lang="en-US" sz="2400" spc="1" strike="noStrike">
              <a:ln w="12600">
                <a:solidFill>
                  <a:srgbClr val="28a4a1"/>
                </a:solidFill>
                <a:miter/>
              </a:ln>
              <a:solidFill>
                <a:srgbClr val="006699"/>
              </a:solidFill>
              <a:effectLst>
                <a:outerShdw dist="40186" dir="1096358" blurRad="0" rotWithShape="0">
                  <a:srgbClr val="28a4a1"/>
                </a:outerShdw>
              </a:effectLst>
              <a:latin typeface="Lombardic Narrow"/>
              <a:ea typeface="Lombardic Narrow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1447920" y="5486400"/>
            <a:ext cx="745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ine of Roman Empire- Germanic Barbarians took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everything fell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752480" y="334800"/>
            <a:ext cx="7010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Charlemagne: 742 to 8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Charlemagne"/>
          <p:cNvPicPr/>
          <p:nvPr/>
        </p:nvPicPr>
        <p:blipFill>
          <a:blip r:embed="rId1">
            <a:lum contrast="6000"/>
          </a:blip>
          <a:srcRect l="1910" t="2979" r="0" b="2979"/>
          <a:stretch/>
        </p:blipFill>
        <p:spPr>
          <a:xfrm>
            <a:off x="3048120" y="1219320"/>
            <a:ext cx="4371840" cy="533376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752480" y="228600"/>
            <a:ext cx="7010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Charlemagne’s Em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map-Charlemagne's Empire"/>
          <p:cNvPicPr/>
          <p:nvPr/>
        </p:nvPicPr>
        <p:blipFill>
          <a:blip r:embed="rId1"/>
          <a:stretch/>
        </p:blipFill>
        <p:spPr>
          <a:xfrm>
            <a:off x="1461960" y="1278000"/>
            <a:ext cx="7529760" cy="506088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752480" y="228600"/>
            <a:ext cx="70106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Pope Crowned Charlemagne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Holy Roman Emperor: Dec. 25, 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harlemagne Crowned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730600" y="1447920"/>
            <a:ext cx="4889520" cy="5029200"/>
          </a:xfrm>
          <a:prstGeom prst="rect">
            <a:avLst/>
          </a:prstGeom>
          <a:ln w="1908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mag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447560" y="1219320"/>
            <a:ext cx="7467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Charles the Great; grandson of Charles Martel; ruler of Fr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built an empire reaching across France, Germany, &amp; 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France,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768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… on the next slide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447560" y="685800"/>
            <a:ext cx="7467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t an empire greater than any known since Rome (Holy Roman Empire); created unified Christia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crowned HRE by the pope = Pope had more power than a king… will be a prob for a LONG time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ed the blending of Germanic, Christian, &amp; Roman tra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strong, efficient gov’ts- ex for ppl after h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death = break up of power &amp; lands = feudalism &amp; diff. countries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752480" y="228600"/>
            <a:ext cx="7010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Charlemagne’s Empire Collapses: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Treaty of Verdun, 8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map-Treaty of Verdun-843"/>
          <p:cNvPicPr/>
          <p:nvPr/>
        </p:nvPicPr>
        <p:blipFill>
          <a:blip r:embed="rId1">
            <a:lum contrast="6000"/>
          </a:blip>
          <a:srcRect l="0" t="4815" r="0" b="842"/>
          <a:stretch/>
        </p:blipFill>
        <p:spPr>
          <a:xfrm>
            <a:off x="3232080" y="1371600"/>
            <a:ext cx="3930840" cy="525780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752480" y="304920"/>
            <a:ext cx="7010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The Carolingian Renaiss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695680" cy="3962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1600200" y="1066680"/>
            <a:ext cx="1647720" cy="1733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733920" y="1295280"/>
            <a:ext cx="2022480" cy="2057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1905120" y="3505320"/>
            <a:ext cx="327636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 Feud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ud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447920" y="1066680"/>
            <a:ext cx="72388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: lords, vassals, kings (Europ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: decentralized political &amp; economic structure in which powerful local lords divided their landholdings among lesser l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: Middle Ages, 500-1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: serve as protection against invaders; system of mutual obligations b/n lords &amp; vas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95280" y="914040"/>
            <a:ext cx="73915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lesser l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pledged service &amp; loyalty to the greater lord in exchange for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iddle Ages,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his service was important to making the new gov’t &amp; econ system (Feudalism)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600200" y="41112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Period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286000" y="1639800"/>
            <a:ext cx="6248520" cy="31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Early Middle Ag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  500 –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High Middle Ag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  1000 – 1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Late Middle Ag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  1250 - 1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udal Con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47920" y="990360"/>
            <a:ext cx="72388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lords &amp; vas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 pledge of  an exchange of land &amp; loyalty for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iddle Ages,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 Lord grants “fief” to vassal for protection; the vassal pledges his loyalty to lord &amp; promises military servic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523520" y="1066680"/>
            <a:ext cx="71629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Lords &amp; Vas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estate (land) that is granted to the vassal in exchange for his loya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iddle Ages,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 Vassal would receive land with peasants(serfs) to work it-this exchange was an important part of the Feudal con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udalism- Main Idea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for worksh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udalism- a new govt/econ system focused on protection devel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udal contract promised exchange of land (fief) for loyalty (mutual oblig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ety was structured with king, lord, vassal, serf- relationships were complex- loyalties were conf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mounted warr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fought for lords in battle in return for land (f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iddle Ages,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serf boys sent away to train @ 7, fought in battles for the lord= the protection that Feudal system was based on= without the knight- no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urna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kn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mock (fake) bat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A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is served as entertainment for society; practice for the knights for real ba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Lords &amp; peasants (serf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Lord’s estate, villages &amp; surrounding 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iddle Ages,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most imp thing to Feudal econ; peasants worked on the manor in return for protection from the lord; Self-suffici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 Peas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not slaves, but bound to lord’s land &amp; couldn’t leave; worked the lord’s 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iddle Ages,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worked the land- w/o them the Feudal econ wouldn’t have existed; hard life, disease &amp; hunger = most died by 35; limited d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nor- main ide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for worksheet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or was the lord’s estate, worked by the serf for protection- most imp part of Feudal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sants worked the land for the lord, in return they got protection &amp; housing from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sufficient- produced everything they needed, didn’t need oth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fs- hard life, died by 35, limited d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600200" y="228600"/>
            <a:ext cx="7315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t Gothic ExtraBold"/>
              </a:rPr>
              <a:t>Feud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33720" y="762120"/>
            <a:ext cx="62481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: A political, economic, and social system based on loyalty and military servic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 governed Europe during Middle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6" descr="chart-feudal hierarchy"/>
          <p:cNvPicPr/>
          <p:nvPr/>
        </p:nvPicPr>
        <p:blipFill>
          <a:blip r:embed="rId1"/>
          <a:stretch/>
        </p:blipFill>
        <p:spPr>
          <a:xfrm>
            <a:off x="1447920" y="2743200"/>
            <a:ext cx="7696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amid socia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87164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http://www.mce.k12tn.net/middleages/feudalpyramid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1905120" y="228600"/>
            <a:ext cx="7010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Europe in the 6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Peoples and Kingdoms of the Roman World c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600200" y="1330200"/>
            <a:ext cx="7315200" cy="507060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600200" y="22860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Carcassonne:  A Medieval Cas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Carcassonne"/>
          <p:cNvPicPr/>
          <p:nvPr/>
        </p:nvPicPr>
        <p:blipFill>
          <a:blip r:embed="rId1">
            <a:lum contrast="6000"/>
          </a:blip>
          <a:srcRect l="1051" t="0" r="0" b="0"/>
          <a:stretch/>
        </p:blipFill>
        <p:spPr>
          <a:xfrm>
            <a:off x="1600200" y="990720"/>
            <a:ext cx="7391520" cy="542916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600200" y="22860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Parts of a Medieval Cas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parts of a castle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538280" y="1295280"/>
            <a:ext cx="7453440" cy="48895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a_medieval_mano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600200" y="22860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The Medieval Ma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map-medieval manor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05120" y="114300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600200" y="22860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Life on the Medieval Ma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Serbs on Manor"/>
          <p:cNvPicPr/>
          <p:nvPr/>
        </p:nvPicPr>
        <p:blipFill>
          <a:blip r:embed="rId1"/>
          <a:stretch/>
        </p:blipFill>
        <p:spPr>
          <a:xfrm>
            <a:off x="1600200" y="1066680"/>
            <a:ext cx="3492360" cy="548640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  <p:pic>
        <p:nvPicPr>
          <p:cNvPr id="122" name="Picture 6" descr="Medieval Builders"/>
          <p:cNvPicPr/>
          <p:nvPr/>
        </p:nvPicPr>
        <p:blipFill>
          <a:blip r:embed="rId2">
            <a:lum contrast="6000"/>
          </a:blip>
          <a:srcRect l="2226" t="0" r="2226" b="4479"/>
          <a:stretch/>
        </p:blipFill>
        <p:spPr>
          <a:xfrm>
            <a:off x="5334120" y="1295280"/>
            <a:ext cx="3581280" cy="333216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  <p:sp>
        <p:nvSpPr>
          <p:cNvPr id="123" name="Text Box 7"/>
          <p:cNvSpPr/>
          <p:nvPr/>
        </p:nvSpPr>
        <p:spPr>
          <a:xfrm>
            <a:off x="5638680" y="5105520"/>
            <a:ext cx="2819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3300"/>
                </a:solidFill>
                <a:latin typeface="Comic Sans MS"/>
              </a:rPr>
              <a:t>Serfs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at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67820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"/>
          <p:cNvSpPr/>
          <p:nvPr/>
        </p:nvSpPr>
        <p:spPr>
          <a:xfrm>
            <a:off x="4038480" y="3200400"/>
            <a:ext cx="4800600" cy="312408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4572000" y="228600"/>
            <a:ext cx="3733920" cy="236232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6320" y="152280"/>
            <a:ext cx="3504960" cy="441972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4267080" y="3276720"/>
            <a:ext cx="4343400" cy="2957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66760" y="304920"/>
            <a:ext cx="3085920" cy="4114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3"/>
          <a:stretch/>
        </p:blipFill>
        <p:spPr>
          <a:xfrm>
            <a:off x="4876920" y="380880"/>
            <a:ext cx="3162240" cy="20354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1"/>
          <p:cNvSpPr/>
          <p:nvPr/>
        </p:nvSpPr>
        <p:spPr>
          <a:xfrm>
            <a:off x="304920" y="472428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Villag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5334120" y="25909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Village Bak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5105520" y="62784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Peasan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600200" y="228600"/>
            <a:ext cx="73152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t Gothic ExtraBold"/>
              </a:rPr>
              <a:t>Chivalry</a:t>
            </a:r>
            <a:r>
              <a:rPr b="1" lang="en-US" sz="3200" spc="-1" strike="noStrike">
                <a:solidFill>
                  <a:srgbClr val="cc3300"/>
                </a:solidFill>
                <a:latin typeface="Art Gothic ExtraBold"/>
              </a:rPr>
              <a:t>:</a:t>
            </a: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  A Code of Honor and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Aristocratic Love"/>
          <p:cNvPicPr/>
          <p:nvPr/>
        </p:nvPicPr>
        <p:blipFill>
          <a:blip r:embed="rId1"/>
          <a:stretch/>
        </p:blipFill>
        <p:spPr>
          <a:xfrm>
            <a:off x="3182760" y="914400"/>
            <a:ext cx="3903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wer of the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wer of the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23520" y="1142640"/>
            <a:ext cx="7239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 political gov’ts around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hurch #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of everyone’s lives in Middle Ages (remember the picture- center of the villag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n: Christia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l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23880" y="12193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roots in classical Rome, Roman Catholic Church, Germanic cus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 decreased, less $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fall of cities– went to vill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went from city to Rural (count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ine of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of common language- different dial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the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600200" y="990360"/>
            <a:ext cx="7238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archy of Clergy- just like Feud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rgy: religious offic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Diagram 3" descr=""/>
          <p:cNvPicPr/>
          <p:nvPr/>
        </p:nvPicPr>
        <p:blipFill>
          <a:blip r:embed="rId1"/>
          <a:stretch/>
        </p:blipFill>
        <p:spPr>
          <a:xfrm>
            <a:off x="2577960" y="1743120"/>
            <a:ext cx="61214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lergy)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447560" y="10666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d as the unifying force among the people in M.A.– brought people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d as the main contact with the Church and God– aka Sal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ered Sacraments (important Religious ceremonies/rit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Baptism, Marriage, Comm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cra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Priests &amp; Christ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the sacred rights of th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iddle Ages,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Christians thought by taking sacraments it would lead them to salvation after death, these guided ppl to be moral (ex. Baptism, marriage, becoming pri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dictine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Monks &amp; n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rules that regulated the monastic lives of Monks &amp; n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monasteries &amp; convents across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y took vows of obedience, poverty, purity; this told them when/what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urch dominated Medieval life- the people of WE converted to Christianity &amp; anyone who didn’t belong to the church = suspic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the Parish Priest: the priest (in charge of local church) practiced Christian rituals &amp; helped put the rituals into everyda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ortance of village church: The church was a social center &amp; largest building in the village; supported by tithes, or 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e of Cathedrals: Bishops manages Cathedrals (larger church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rch taught ppl men &amp; women were =; In society, women viewed as weak; the church tried to protect women but would punish women more harsh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 idea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asteries &amp; Convents: Benedict organized a monastery &amp; developed Benedictine Rule- regulated monks’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&amp; Scholarship: Monasteries provided health &amp; education; kept learning alive; didn’t like women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rch’s role in societ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621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W. Europ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 worldly force in Medieval Europe; non-religious (ex. Kings, emper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 church was so powerful that it even controlled the Secular life (i.e. Pope was in charge of secular leaders-k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al Suprem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Medieval p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the Pope had authority of all people (Kings &amp; Emperors inclu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 Pope was viewed as a representative of God here on earth; he was higher than anyone else= Pope was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urch was the most important thing in life during Middle Ages= Pope was the most important and powerful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vis” (N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47920" y="1143000"/>
            <a:ext cx="72388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Warrior king of the Fr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conquered part of the Roman Empire &amp; established the Frank kingdom; converted to Christia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France, Western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496 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his Frank kingdom replaced the great Roman Empire; his kingdom became what is today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on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Christ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the church’s body of laws based on religious teachings that Christians had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governed many aspects of life- wills, marriages, &amp; morals; if you broke these rules- you’d be pu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Christ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 punishment Christians received for breaking Canon law- kicked out of th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most severe of punishment- you could not receive sacraments or Christian burial = condemned to hell for eter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d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powerful noble, Chris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 punishment for not obeying Canon law- an order excluding a noble’s entire land/region from th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if the noble received this- his people couldn’t get sacraments or Christian burial  =revol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us authority: Christian church dedicated to God- anyone who broke Canon law = punishment such as excommunication or inter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uption &amp; Reform: Christians left land &amp; wealth to monasteries – Clergy took this wealth = corrupt = started breaking rules (getting married) = refor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Mo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Monks that did not live in isolated monasteries, they traveled through Europe preaching to the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y had an impact on religion in WE- converted the poor ppl to Christianity = Christianity became most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. Francis of Assi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wealthy Italian mo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founded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der of Friars called the Fransis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1181- 12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devoted himself to preaching the Gospels &amp; teaching through his examples of good works; preached poverty, humility, &amp; love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 ide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094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ast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523880" y="106668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European Christ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religious communities where Monks lived; Nuns lived in con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iddle Ages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were Europe’s best educated communities: schools, libraries, cop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752480" y="334800"/>
            <a:ext cx="7010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A Medieval Monk’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chart-a monk's day"/>
          <p:cNvPicPr/>
          <p:nvPr/>
        </p:nvPicPr>
        <p:blipFill>
          <a:blip r:embed="rId1">
            <a:lum contrast="6000"/>
          </a:blip>
          <a:srcRect l="1431" t="11905" r="1431" b="2385"/>
          <a:stretch/>
        </p:blipFill>
        <p:spPr>
          <a:xfrm>
            <a:off x="1600200" y="1380960"/>
            <a:ext cx="7238880" cy="479124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1752480" y="334800"/>
            <a:ext cx="7010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A Medieval Monastery:  The </a:t>
            </a:r>
            <a:r>
              <a:rPr b="1" i="1" lang="en-US" sz="3200" spc="-1" strike="noStrike">
                <a:solidFill>
                  <a:srgbClr val="cc3300"/>
                </a:solidFill>
                <a:latin typeface="Art Gothic ExtraBold"/>
              </a:rPr>
              <a:t>Scripto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monastic library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47920" y="1219320"/>
            <a:ext cx="3781440" cy="543852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eval” (N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23520" y="990360"/>
            <a:ext cx="71629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Germanic tri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from the latin words for “Middle Age”; time period after Roman Emp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stern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culture blended Greco-Roman, Germanic, &amp; Christian traditions to make a new civ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752480" y="334800"/>
            <a:ext cx="7010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Illuminated Manu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Illuminated Manuscript-2"/>
          <p:cNvPicPr/>
          <p:nvPr/>
        </p:nvPicPr>
        <p:blipFill>
          <a:blip r:embed="rId1">
            <a:lum contrast="6000"/>
          </a:blip>
          <a:srcRect l="1493" t="4045" r="4715" b="3556"/>
          <a:stretch/>
        </p:blipFill>
        <p:spPr>
          <a:xfrm>
            <a:off x="2971800" y="990720"/>
            <a:ext cx="4492800" cy="556236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on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447560" y="12193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system of justice- The law of the Church for matters such as marriage &amp; religious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If you didn’t obey Canon Law, you would be excommunicated or not allowed to take Sacraments = Hell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: Pope or King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523880" y="1143000"/>
            <a:ext cx="7315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e had #1 power on earth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s thought they were from God &amp; should have the #1 power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struggle… Who has the #1 pow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lema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ower struggle con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599840" y="1066680"/>
            <a:ext cx="7086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urch resented Kings/nobles having power over the church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e BANS Lay Investitu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itates King, so King says: “Step down!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e Excommunicates King Hen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he Pope has more power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 Investi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523880" y="1066680"/>
            <a:ext cx="7391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European Kings &amp; the P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Kings &amp; nobles appointed church offic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_(you should know these by now…)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Kings had power over the church = the Church/Pope gets mad = Pope BANS Lay Investiture= King &amp; Pope f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ordat of W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52388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Pope &amp; K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greement b.n Pope &amp; Kings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orms,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1122 CE (Middle Ag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’T FORGET to do these cards that aren’t here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47560" y="16765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olingian Dyna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val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600200" y="38880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The Power of the Medieval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905120" y="1455840"/>
            <a:ext cx="6933960" cy="50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ishops and abbots played a large part i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the feudal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church controlled about 1/3 of th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land in Western Eur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ed to curb feudal warfar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nly 4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days a year for comb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urb heresie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crusad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; 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Inqui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tith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1/10 tax on your assets given 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the chu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Peter’s Penc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1 penny per pers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[paid by the peasants]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1600200" y="22860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Romanesque Architectur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600200" y="838080"/>
            <a:ext cx="754380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PressWriter Symbol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ounded Ar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PressWriter Symbol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rrel va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PressWriter Symbol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ck w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PressWriter Symbol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rker, simplistic interi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PressWriter Symbol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mall windows, usually at the top of the w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Romanesque Church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971800" y="3735360"/>
            <a:ext cx="4038480" cy="281772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k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47560" y="1295280"/>
            <a:ext cx="7467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Germanic People, Clo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group of people that conquered parts of the Roman Em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Gaul (France &amp; Switzerland toda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 leader Clovis converted to Christianity &amp; united all the Franks = made them all Christian; their area &amp; customs eventually became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Martel” (N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23520" y="990360"/>
            <a:ext cx="71629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leader of Frankish warr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won the Battle of Tours &amp; stopped Muslims from entering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Gaul, France, Western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7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he pushed the Muslims back, out of Europe, which showed God was on the Christians’ side=  WE stays Chris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Tours” (N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599840" y="990360"/>
            <a:ext cx="7086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Charles Martel, Frankish warriors vs. Musl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 battle between Muslims &amp; Christians over control of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Gaul, France,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7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 Christians pushed the Muslims back= Muslims did not conquer France; made WE Chris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17:28:21Z</dcterms:created>
  <dc:creator>Susan M. Pojer</dc:creator>
  <dc:description/>
  <dc:language>en-US</dc:language>
  <cp:lastModifiedBy>Windows User</cp:lastModifiedBy>
  <dcterms:modified xsi:type="dcterms:W3CDTF">2012-09-06T19:43:23Z</dcterms:modified>
  <cp:revision>186</cp:revision>
  <dc:subject/>
  <dc:title>Slide 1</dc:title>
</cp:coreProperties>
</file>